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639B-A21A-4772-90F2-3A52F994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A09A-07DB-4628-B678-41000133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F8CD-1D74-49F1-9B66-594D310D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CF8D-57B3-4DBE-B19B-C7DD8A09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12E2-8E5C-4587-91B1-D44DDF4E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DC33-3E76-4C18-ADE7-9E68C48B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4D88-A814-40BB-BB0C-FC4621AE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AC5B-4792-4B0D-980B-BC25E041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B8A0-034D-4539-AB0E-55809537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8C4E-B29B-477B-85EA-1BEE9DA6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89B0-A156-430B-BA43-BD0710F8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DBD-C97B-4E9B-873A-88627988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523A-FF74-4316-BB57-FEE67195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0BF9-46E0-4D9B-99EA-E8784422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7FF6-73C8-48E0-8B8F-C78C7581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0F59-5242-4DE0-99D7-63487035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B8C0-2F5B-43F1-AB44-FAE720DC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7D797A-8C91-4AE3-BFA7-71044A7E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77FAB-4DB4-4380-89A1-15E44A95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A8104-9C1F-4B1D-9EB5-83AE685F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3CCBD-C156-467E-8903-DFC6687E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358DE-CBF1-4AA1-AA5D-00CA69BD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45D-E136-440B-AD86-90E5B650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4236F-ED88-447A-B977-BBE82BE5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0E7FCE-3B56-41F6-BDBA-E5022F1C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245D2-8827-4CD2-AD61-CA1D63D5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07042-79DC-4F47-A2A0-67133F0B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9FEC2-19C2-4FA8-ACDE-5F1DD1B3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7F65D-0959-46B4-8901-2AE3F9BB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FDCB73-CED7-4E36-B330-D1B4F172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66B92-1F49-43A9-A515-A0F04A89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7B3B4-B34D-4DA7-B90C-A017C682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20FA8-783B-48B0-82E1-2B9A6B12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19CE-45AF-45A1-82E8-FC5C0902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E4B4E-CA43-486F-B8F1-2AED6667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4214F-1361-4F8C-8459-10DC4759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5A741-E536-499B-BDFF-8AB31F55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76CDF-A919-43C3-B302-EF86996C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9086-34DB-48F5-81E2-8FFD3E02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C3490-409A-4104-A4D2-6B291677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7B452-D21A-4EED-A3D8-32A3DC98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6C50E-BA4D-48F0-A858-AB8F5C305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F8D63-39FF-465D-BA49-5A93EC792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76E258-EF44-4FBE-89B8-2374B21F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FF8-9147-459A-BE8F-F03E2914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3F8B1-BBFB-4A35-9A74-08F5E329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E6620B-C7A5-41C7-8E07-2AE603D6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E6079C-B02A-4FDA-A35E-C8A2EA9A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388E4-FDBB-477B-BB54-B0CCD6D2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813198-ED05-4FD3-849A-ACD9736B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F4B6DF-7C63-4C7A-A79A-F34CB362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63650-769E-4A62-8C9A-6E7803CC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1CBF9-EF37-497C-A88B-5C42BC6A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B1DEED-22E9-40C7-A883-95DCABCD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76B21-0113-4D09-A7E9-4DA888612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AE7-FE96-4BD3-90B0-189680CE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6DABC-D290-41D5-9891-0DF16FFA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98A024-C42A-45E8-91AD-982698437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9B8E18-B2C1-4EDE-BBC1-CEA5A4F6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E2E112-C86F-49EA-85BE-1CAC00F6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1931CA-A69C-4050-A47F-D67C41D3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FAB238-B127-44D9-AF5C-2E2FEF8D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FDB527-B7EA-4808-8DFA-8634A153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216C0E-138C-4FDD-9C33-20D3B6CD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A1547-EB0B-4B94-BF9A-0C20899B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B3D83-51DB-43D5-8A41-4701E914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F5B-EBC3-410F-86A0-E5A497CE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D1A61A-7B69-4FCE-843B-4BEA3E95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7D0C8-4C0A-49DE-B1E2-3E2CD64D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7101B-8586-41B5-B457-745F7EE5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8AB38-9C57-4C1A-AD52-95DD82CA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0E7EFC-E9C2-40BE-8148-1C589BD2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2E11BE-6236-4586-9248-7AF41833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E28DB4-7DFC-4B1F-84F7-708AB4D9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373F5-BC40-448A-BD7F-C88B0F61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0C117B-01A7-46DA-8DE0-C20DC0D6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BE9B32-BB08-44CE-AD79-65A5888F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7D8-C413-4506-ABFA-8CE079FE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232EBA-872F-49A5-B23C-B209070F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72F226-88EE-4C83-9700-916B7CBF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E8D823-8431-4916-8B1F-E143894D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419FA6-E63D-45CE-A084-8500901D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90FA3D-B53F-47C1-A418-92825865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A4EB-10F5-4C45-95B7-F07AEDB5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CC91-E066-4F6B-A283-15BB89B58DF0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1F26-7C22-4FCC-99D4-2133D458CCF9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E97C-ADD8-4E1C-BA68-9D17D40C694D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6753-DCBF-47E9-A88A-3D4586700A08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34CE-99C9-4254-95A4-095776EF0C7B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5457-36B8-439F-B1E2-E1103AF81D89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102F-2FDD-4916-8DDD-8D7619C2A75F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63280" y="5157360"/>
            <a:ext cx="7380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575f6d"/>
                </a:solidFill>
                <a:latin typeface="Century Schoolbook"/>
              </a:rPr>
              <a:t>LESSON 17:  EVOLUTION REVIE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908000" y="4437000"/>
            <a:ext cx="7236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7200" y="404280"/>
            <a:ext cx="80755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Jean-Baptist Lamark and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Lamark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ll animals came from primitive worms and changed into other animals through inheritance of acquired characteristic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rganism’s behaviour affected their body’s features:  the more you used it, the more it would grow and change in a lifetime and then be passed on to the next gener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e had no evidence, and for example big muscles are not passed on to childr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6840" y="189000"/>
            <a:ext cx="746748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831 HMS Beagle to South America (Galapagos) and the south Pacifi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w a large variety of species, each adapted to it’s own environment (ex tortoises, finch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nt 20 years working on his theory of evolution by natural sele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147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575f6d"/>
                </a:solidFill>
                <a:latin typeface="Century Schoolbook"/>
              </a:rPr>
              <a:t>REVIEW OF THE THEORY OF EVOLU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8920" y="764640"/>
            <a:ext cx="8496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D. E.A.R.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Differences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(variations)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ll species are different from one another because of the characteristics they are born with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Environmental Pressure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ything which acts to limit their ability to survive… 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overpopulation, predators, environmental changes…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Adaptation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 characteristic  (already present) which helps it to survive the environmental pressure.  IT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DOES NOT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EVELOP NEW CHARACTERISTICS </a:t>
            </a: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IN RESPONSE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O THE ENVIRONMENTAL PRESSUR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entury Schoolbook"/>
              </a:rPr>
              <a:t>Reproduction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uccessful adaptations are passed on from one generation to another because the specie survives to reproduce that</a:t>
            </a: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 adaptation will most likely be inherited by the next generation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08000" y="0"/>
            <a:ext cx="871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ere are four main principles to the theory of natural selection: variation,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verproduction, adaptation, and descent with modificatio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Variation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Differences in the genetic material of the organisms,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hether inherited from a parent or resulting from a genetic mutatio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Overproduction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any offspring raises the chance that some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will survive, it also results in competition between offspring for resourc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Adaptatio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: More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uccessful individuals with more successful variations are “naturally selected” to live longer and to produce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more offspring that share those adaptations for their environmen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entury Schoolbook"/>
              </a:rPr>
              <a:t>Descent with modification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: More individuals will have the adaptation in every following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generation, as long as the environmental conditions continue to remain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beneficial for that adaptatio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333360"/>
            <a:ext cx="82184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is all leads back to variation again and with better variations of the adaptations having increasingly more likelihood to survive in the environment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e can find three basic pieces of evidence for evolution for use in the classroom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A)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 Morpholog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omologous and analogous structur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B)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 DNA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ommon to all living organisms and passed from our ancestor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C)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Fossil recor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help to show that different species lived at different times. (Not all created at the same time by God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3:07:00Z</dcterms:created>
  <dc:creator>Laura</dc:creator>
  <dc:description/>
  <dc:language>en-US</dc:language>
  <cp:lastModifiedBy>USUARIO</cp:lastModifiedBy>
  <dcterms:modified xsi:type="dcterms:W3CDTF">2012-11-12T19:05:23Z</dcterms:modified>
  <cp:revision>6</cp:revision>
  <dc:subject/>
  <dc:title>Review of the Theory of Evolution</dc:title>
</cp:coreProperties>
</file>